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2.gif" ContentType="image/gif"/>
  <Override PartName="/ppt/media/image3.gif" ContentType="image/gif"/>
  <Override PartName="/ppt/media/APPLAUSE.WAV" ContentType="audio/x-wav"/>
  <Override PartName="/ppt/media/image4.gif" ContentType="image/gif"/>
  <Override PartName="/ppt/media/image8.png" ContentType="image/png"/>
  <Override PartName="/ppt/media/image5.gif" ContentType="image/gif"/>
  <Override PartName="/ppt/media/image6.gif" ContentType="image/gif"/>
  <Override PartName="/ppt/media/image7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04920" y="235080"/>
            <a:ext cx="8458200" cy="63309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6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66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6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cc"/>
                </a:solidFill>
                <a:latin typeface="AbcBulletin"/>
              </a:rPr>
              <a:t>Guess the Covered Word</a:t>
            </a:r>
            <a:endParaRPr b="0" lang="en-US" sz="72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447920" y="3352680"/>
            <a:ext cx="64008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Bulletin"/>
              </a:rPr>
              <a:t>Spelling Words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Bulletin"/>
              </a:rPr>
              <a:t>Week 5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62120" y="5029200"/>
            <a:ext cx="7467480" cy="76428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bcPrint"/>
              </a:rPr>
              <a:t>Is the gift </a:t>
            </a:r>
            <a:r>
              <a:rPr b="0" lang="en-US" sz="4400" spc="-1" strike="noStrike">
                <a:solidFill>
                  <a:srgbClr val="ff0000"/>
                </a:solidFill>
                <a:latin typeface="AbcPrint"/>
              </a:rPr>
              <a:t>from</a:t>
            </a:r>
            <a:r>
              <a:rPr b="0" lang="en-US" sz="4400" spc="-1" strike="noStrike">
                <a:solidFill>
                  <a:srgbClr val="3333cc"/>
                </a:solidFill>
                <a:latin typeface="AbcPrint"/>
              </a:rPr>
              <a:t> you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19720" y="5029200"/>
            <a:ext cx="11430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174840" y="1523880"/>
            <a:ext cx="2616480" cy="31244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b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066680" y="4800600"/>
            <a:ext cx="678204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00200" y="4800600"/>
            <a:ext cx="586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bcPrint"/>
              </a:rPr>
              <a:t>    </a:t>
            </a:r>
            <a:r>
              <a:rPr b="1" lang="en-US" sz="4000" spc="-1" strike="noStrike">
                <a:solidFill>
                  <a:srgbClr val="ff0000"/>
                </a:solidFill>
                <a:latin typeface="AbcPrint"/>
              </a:rPr>
              <a:t>Can I have </a:t>
            </a:r>
            <a:r>
              <a:rPr b="1" lang="en-US" sz="4000" spc="-1" strike="noStrike">
                <a:solidFill>
                  <a:srgbClr val="3333cc"/>
                </a:solidFill>
                <a:latin typeface="AbcPrint"/>
              </a:rPr>
              <a:t>this </a:t>
            </a:r>
            <a:r>
              <a:rPr b="1" lang="en-US" sz="4000" spc="-1" strike="noStrike">
                <a:solidFill>
                  <a:srgbClr val="ff0000"/>
                </a:solidFill>
                <a:latin typeface="AbcPrint"/>
              </a:rPr>
              <a:t>do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952880" y="3048120"/>
            <a:ext cx="1720800" cy="12636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438280" y="1371600"/>
            <a:ext cx="1758960" cy="30877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800600" y="4876920"/>
            <a:ext cx="6858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b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066680" y="4800600"/>
            <a:ext cx="678204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4800600"/>
            <a:ext cx="586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bcPrint"/>
              </a:rPr>
              <a:t>    </a:t>
            </a:r>
            <a:r>
              <a:rPr b="1" lang="en-US" sz="4000" spc="-1" strike="noStrike">
                <a:solidFill>
                  <a:srgbClr val="ff0000"/>
                </a:solidFill>
                <a:latin typeface="AbcPrint"/>
              </a:rPr>
              <a:t>Can I have </a:t>
            </a:r>
            <a:r>
              <a:rPr b="1" lang="en-US" sz="4000" spc="-1" strike="noStrike">
                <a:solidFill>
                  <a:srgbClr val="3333cc"/>
                </a:solidFill>
                <a:latin typeface="AbcPrint"/>
              </a:rPr>
              <a:t>this </a:t>
            </a:r>
            <a:r>
              <a:rPr b="1" lang="en-US" sz="4000" spc="-1" strike="noStrike">
                <a:solidFill>
                  <a:srgbClr val="ff0000"/>
                </a:solidFill>
                <a:latin typeface="AbcPrint"/>
              </a:rPr>
              <a:t>do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952880" y="3048120"/>
            <a:ext cx="1720800" cy="1263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438280" y="1371600"/>
            <a:ext cx="1758960" cy="30877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800600" y="4876920"/>
            <a:ext cx="6858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838080" y="762120"/>
            <a:ext cx="68580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Look at th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words quickly.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hen we will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spell them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ogether by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hanting.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09680" y="2362320"/>
            <a:ext cx="441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bcPrint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sh dir="d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133720" y="220968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cc"/>
                </a:solidFill>
                <a:latin typeface="AbcPrint"/>
              </a:rPr>
              <a:t>b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33720" y="220968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cc33"/>
                </a:solidFill>
                <a:latin typeface="AbcPrint"/>
              </a:rPr>
              <a:t>hav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133720" y="220968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cc"/>
                </a:solidFill>
                <a:latin typeface="AbcPrint"/>
              </a:rPr>
              <a:t>from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133720" y="220968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bcPrint"/>
              </a:rPr>
              <a:t>thi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895480" y="762120"/>
            <a:ext cx="3427560" cy="38718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38080" y="487692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cPrint"/>
              </a:rPr>
              <a:t>Mickey says, “You did A-OK!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609480"/>
            <a:ext cx="6934320" cy="56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halkboard Bold"/>
              </a:rPr>
              <a:t>Say the word as the arrow points to 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3600" spc="-1" strike="noStrike">
                <a:solidFill>
                  <a:srgbClr val="ff0000"/>
                </a:solidFill>
                <a:latin typeface="AbcPrint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600" spc="-1" strike="noStrike">
                <a:solidFill>
                  <a:srgbClr val="3333cc"/>
                </a:solidFill>
                <a:latin typeface="AbcPrint"/>
              </a:rPr>
              <a:t>ha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600" spc="-1" strike="noStrike">
                <a:solidFill>
                  <a:srgbClr val="ff9933"/>
                </a:solidFill>
                <a:latin typeface="AbcPrint"/>
              </a:rPr>
              <a:t>be</a:t>
            </a:r>
            <a:r>
              <a:rPr b="0" lang="en-US" sz="3600" spc="-1" strike="noStrike">
                <a:solidFill>
                  <a:srgbClr val="ff9933"/>
                </a:solidFill>
                <a:latin typeface="AbcPrint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600" spc="-1" strike="noStrike">
                <a:solidFill>
                  <a:srgbClr val="9900cc"/>
                </a:solidFill>
                <a:latin typeface="AbcPrint"/>
              </a:rPr>
              <a:t>fr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600" spc="-1" strike="noStrike">
                <a:solidFill>
                  <a:srgbClr val="33cc33"/>
                </a:solidFill>
                <a:latin typeface="AbcPrint"/>
              </a:rPr>
              <a:t>th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6520" y="2362320"/>
            <a:ext cx="1904760" cy="304560"/>
          </a:xfrm>
          <a:custGeom>
            <a:avLst/>
            <a:gdLst>
              <a:gd name="textAreaLeft" fmla="*/ 297360 w 1904760"/>
              <a:gd name="textAreaRight" fmla="*/ 1666800 w 190476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3200400"/>
            <a:ext cx="1904760" cy="304920"/>
          </a:xfrm>
          <a:custGeom>
            <a:avLst/>
            <a:gdLst>
              <a:gd name="textAreaLeft" fmla="*/ 297360 w 1904760"/>
              <a:gd name="textAreaRight" fmla="*/ 1666800 w 19047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76520" y="4038480"/>
            <a:ext cx="1904760" cy="304920"/>
          </a:xfrm>
          <a:custGeom>
            <a:avLst/>
            <a:gdLst>
              <a:gd name="textAreaLeft" fmla="*/ 297360 w 1904760"/>
              <a:gd name="textAreaRight" fmla="*/ 1666800 w 19047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4876920"/>
            <a:ext cx="1904760" cy="304560"/>
          </a:xfrm>
          <a:custGeom>
            <a:avLst/>
            <a:gdLst>
              <a:gd name="textAreaLeft" fmla="*/ 297360 w 1904760"/>
              <a:gd name="textAreaRight" fmla="*/ 1666800 w 190476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5638680"/>
            <a:ext cx="1904760" cy="304920"/>
          </a:xfrm>
          <a:custGeom>
            <a:avLst/>
            <a:gdLst>
              <a:gd name="textAreaLeft" fmla="*/ 297360 w 1904760"/>
              <a:gd name="textAreaRight" fmla="*/ 1666800 w 19047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057400" y="4419720"/>
            <a:ext cx="5410080" cy="228744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AbcPrint"/>
              </a:rPr>
              <a:t>We will be having bread for lun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14800" y="4419720"/>
            <a:ext cx="9144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362320" y="2286000"/>
            <a:ext cx="4539960" cy="140652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057400" y="4419720"/>
            <a:ext cx="5410080" cy="228744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bcPrint"/>
              </a:rPr>
              <a:t>We will </a:t>
            </a:r>
            <a:r>
              <a:rPr b="0" lang="en-US" sz="4800" spc="-1" strike="noStrike">
                <a:solidFill>
                  <a:srgbClr val="3333cc"/>
                </a:solidFill>
                <a:latin typeface="AbcPrint"/>
              </a:rPr>
              <a:t>be</a:t>
            </a:r>
            <a:r>
              <a:rPr b="0" lang="en-US" sz="4800" spc="-1" strike="noStrike">
                <a:solidFill>
                  <a:srgbClr val="ff0000"/>
                </a:solidFill>
                <a:latin typeface="AbcPrint"/>
              </a:rPr>
              <a:t> having bread for lunch</a:t>
            </a:r>
            <a:r>
              <a:rPr b="0" lang="en-US" sz="4800" spc="-1" strike="noStrike">
                <a:solidFill>
                  <a:srgbClr val="3333cc"/>
                </a:solidFill>
                <a:latin typeface="AbcPrint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419720"/>
            <a:ext cx="9144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81080" y="1676520"/>
            <a:ext cx="5181840" cy="178092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14400" y="4876920"/>
            <a:ext cx="7162920" cy="143460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AbcPrint"/>
              </a:rPr>
              <a:t>        </a:t>
            </a:r>
            <a:r>
              <a:rPr b="0" lang="en-US" sz="4400" spc="-1" strike="noStrike">
                <a:solidFill>
                  <a:srgbClr val="3333cc"/>
                </a:solidFill>
                <a:latin typeface="AbcPrint"/>
              </a:rPr>
              <a:t>I</a:t>
            </a:r>
            <a:r>
              <a:rPr b="0" lang="en-US" sz="4400" spc="-1" strike="noStrike">
                <a:solidFill>
                  <a:srgbClr val="33cc33"/>
                </a:solidFill>
                <a:latin typeface="AbcPrint"/>
              </a:rPr>
              <a:t> have a gray ca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133720" y="4876920"/>
            <a:ext cx="53316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76720" y="1295280"/>
            <a:ext cx="2170080" cy="3056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14400" y="4876920"/>
            <a:ext cx="7162920" cy="143460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AbcPrint"/>
              </a:rPr>
              <a:t>         </a:t>
            </a:r>
            <a:r>
              <a:rPr b="0" lang="en-US" sz="4400" spc="-1" strike="noStrike">
                <a:solidFill>
                  <a:srgbClr val="33cc33"/>
                </a:solidFill>
                <a:latin typeface="AbcPrint"/>
              </a:rPr>
              <a:t>I have a gray ca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362320" y="4876920"/>
            <a:ext cx="4572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879640" y="1371600"/>
            <a:ext cx="2503440" cy="30481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90720" y="4876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4343400"/>
            <a:ext cx="7315200" cy="155628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bcPrint"/>
              </a:rPr>
              <a:t>      </a:t>
            </a:r>
            <a:r>
              <a:rPr b="0" lang="en-US" sz="4800" spc="-1" strike="noStrike">
                <a:solidFill>
                  <a:srgbClr val="ff0000"/>
                </a:solidFill>
                <a:latin typeface="AbcPrint"/>
              </a:rPr>
              <a:t>Can I </a:t>
            </a:r>
            <a:r>
              <a:rPr b="0" lang="en-US" sz="4800" spc="-1" strike="noStrike">
                <a:solidFill>
                  <a:srgbClr val="3333cc"/>
                </a:solidFill>
                <a:latin typeface="AbcPrint"/>
              </a:rPr>
              <a:t>have</a:t>
            </a:r>
            <a:r>
              <a:rPr b="0" lang="en-US" sz="4800" spc="-1" strike="noStrike">
                <a:solidFill>
                  <a:srgbClr val="ff0000"/>
                </a:solidFill>
                <a:latin typeface="AbcPrint"/>
              </a:rPr>
              <a:t> a kis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57600" y="4267080"/>
            <a:ext cx="137160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90920" y="1219320"/>
            <a:ext cx="3733560" cy="2722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990720" y="4876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4343400"/>
            <a:ext cx="7315200" cy="155628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bcPrint"/>
              </a:rPr>
              <a:t>      </a:t>
            </a:r>
            <a:r>
              <a:rPr b="0" lang="en-US" sz="4800" spc="-1" strike="noStrike">
                <a:solidFill>
                  <a:srgbClr val="ff0000"/>
                </a:solidFill>
                <a:latin typeface="AbcPrint"/>
              </a:rPr>
              <a:t>Can I </a:t>
            </a:r>
            <a:r>
              <a:rPr b="0" lang="en-US" sz="4800" spc="-1" strike="noStrike">
                <a:solidFill>
                  <a:srgbClr val="3333cc"/>
                </a:solidFill>
                <a:latin typeface="AbcPrint"/>
              </a:rPr>
              <a:t>have</a:t>
            </a:r>
            <a:r>
              <a:rPr b="0" lang="en-US" sz="4800" spc="-1" strike="noStrike">
                <a:solidFill>
                  <a:srgbClr val="ff0000"/>
                </a:solidFill>
                <a:latin typeface="AbcPrint"/>
              </a:rPr>
              <a:t> a kis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657600" y="434340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590920" y="1219320"/>
            <a:ext cx="3733560" cy="2722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62120" y="5029200"/>
            <a:ext cx="7467480" cy="76428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bcPrint"/>
              </a:rPr>
              <a:t>Is the gift </a:t>
            </a:r>
            <a:r>
              <a:rPr b="0" lang="en-US" sz="4400" spc="-1" strike="noStrike">
                <a:solidFill>
                  <a:srgbClr val="ff0000"/>
                </a:solidFill>
                <a:latin typeface="AbcPrint"/>
              </a:rPr>
              <a:t>from</a:t>
            </a:r>
            <a:r>
              <a:rPr b="0" lang="en-US" sz="4400" spc="-1" strike="noStrike">
                <a:solidFill>
                  <a:srgbClr val="3333cc"/>
                </a:solidFill>
                <a:latin typeface="AbcPrint"/>
              </a:rPr>
              <a:t> you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19720" y="5029200"/>
            <a:ext cx="11430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174840" y="1523880"/>
            <a:ext cx="2616480" cy="31244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gewood User</cp:lastModifiedBy>
  <dcterms:modified xsi:type="dcterms:W3CDTF">2009-09-24T13:49:13Z</dcterms:modified>
  <cp:revision>20</cp:revision>
  <dc:subject/>
  <dc:title>Guess the Covered Word</dc:title>
</cp:coreProperties>
</file>